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5D3-E248-4579-BA98-95340FA7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61E-1F6F-4E73-B9D7-EA03EA75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AA7-F284-45DE-AA4C-1B7895CF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0EB-7DE2-4649-BD35-EC7D4B10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3CE1-5139-4F29-AAE6-126191A2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4D58-3EA4-4DE1-B91E-A7A08BD8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0411-7E08-4716-B25F-E0921ABB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D828-9FDA-4D27-B412-A3484C5D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B0D1-4704-4B3E-9427-8BF2D771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984A-15B6-42AB-BEDB-7BC422E6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4B35-3ABF-40AF-B1E3-551671B5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120-05F6-48B7-A928-F7E38348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63B9-58E6-438A-B6BB-B8A53728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6868-344F-46F9-B77D-16BBBB37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B3C5-24DC-46BA-9BB5-B8DB3E43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C3EB-CC87-43CB-B0D0-412A0341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7D4D-0949-4C52-A60C-CAA61E20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BEA-D27B-4EE7-AF53-64323146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5CA-F276-46FD-8B50-E6DA3397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DE5-401F-4D9F-9029-C9E74506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7C5-3238-450B-8EB9-2C0EE247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46D-F3C9-4BF9-B94D-86975A04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679-AECD-4C8A-A355-58A2633D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EA9-A816-43EA-ACF6-B1346E43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2F65-F98E-465F-92C4-B40A2C6417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01ED-959A-4803-BBC9-9631DB79F9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images/view;_ylt=A0PDoX2Gh15OdQsAcpqJzbkF;_ylu=X3oDMTBlMTQ4cGxyBHNlYwNzcgRzbGsDaW1n?back=http%3A%2F%2Fimages.search.yahoo.com%2Fsearch%2Fimages%3Fp%3Dconcav%2Blense%26n%3D30%26ei%3Dutf-8%26y%3DSearch%26b%3D1%26tab%3Dorganic&amp;w=398&amp;h=285&amp;imgurl=1.bp.blogspot.com%2F_g2ifJfT9pHE%2FTGEY57xe1qI%2FAAAAAAAAAIE%2FEPmjxJYo0qs%2Fs1600%2Fconcave%2Blens.jpg&amp;rurl=http%3A%2F%2Fbeansidea.blogspot.com%2F2010%2F06%2Fcreative-thinking-week-4.html&amp;size=16.3+KB&amp;name=concave%2Blens.jpg&amp;p=concav+lense&amp;oid=92cc3db917f3373fdfc2a7ec53ae10cb&amp;fr2=&amp;fr=&amp;rw=concave+lense&amp;tt=concave%2Blens.jpg&amp;b=0&amp;ni=30&amp;no=18&amp;tab=organic&amp;sigr=12344i235&amp;sigb=1328d92ua&amp;sigi=12pfnhsm7&amp;.crumb=b7YQXlm6GF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ФРАКЦИЈА И АКОМОДАЦ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360" y="4339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ф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др Сунчица Срећ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Еметр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с моћи преламања и величине предње задњег дијаметра је  такав да се светлосни зраци који долазе из даљине преламају и секу у самој макули без учешћа акомод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даља тачка јасног вида је у бескона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ближа тачка punctum proksimum PP зависи од старости односно акомодационих способности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ефракционе аномалије (аметропије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аметропијом подразумевамо рефракционе аномалије: хиперметропију, миопију и астигмати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изометропија је неједнака рефракција на два ока исте осо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Хиперметр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547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ерметропија је рефракциона аномалија код које се паралелни светлосни зраци који долазе из даљине фокусирају иза мрежњаче без учешћа акомод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г: осовинска (око мање од 24 mm), ређе cornea plana и афак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нички три облика хиперметропије: тотална, латентна и манифес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екција сабирним конвексним сочи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дус : pseudoneuritis hypermetrop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thumbnail"/>
          <p:cNvPicPr/>
          <p:nvPr/>
        </p:nvPicPr>
        <p:blipFill>
          <a:blip r:embed="rId1"/>
          <a:stretch/>
        </p:blipFill>
        <p:spPr>
          <a:xfrm>
            <a:off x="6451560" y="2428920"/>
            <a:ext cx="269244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и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597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опија је рефракциона аномалија код које паралелни светлосни снопови који долазе из даљине после преламања кроз рожњачу и сочиво стварају фокус пре мрежњаче у стакластом телу и доспевши иза фокуса у стање дивергенције, стварају на ретини расипне круго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г аксијални (око веће од 24 mm или прејака преломна моћ ока (keratokonus, spherophakia, lenticon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гује се конкавним расипним сочивима, контактним сочивима, рефрактивном хирургијом, интраокуларном уградњом  "iris claw" соч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thumbnail"/>
          <p:cNvPicPr/>
          <p:nvPr/>
        </p:nvPicPr>
        <p:blipFill>
          <a:blip r:embed="rId1"/>
          <a:stretch/>
        </p:blipFill>
        <p:spPr>
          <a:xfrm>
            <a:off x="6251400" y="1484280"/>
            <a:ext cx="289260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thumbnail"/>
          <p:cNvPicPr/>
          <p:nvPr/>
        </p:nvPicPr>
        <p:blipFill>
          <a:blip r:embed="rId1"/>
          <a:stretch/>
        </p:blipFill>
        <p:spPr>
          <a:xfrm>
            <a:off x="611280" y="1628640"/>
            <a:ext cx="3887640" cy="2928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thumbnail"/>
          <p:cNvPicPr/>
          <p:nvPr/>
        </p:nvPicPr>
        <p:blipFill>
          <a:blip r:embed="rId2"/>
          <a:stretch/>
        </p:blipFill>
        <p:spPr>
          <a:xfrm>
            <a:off x="4572000" y="1628640"/>
            <a:ext cx="4392720" cy="287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84360" y="501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atok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788000" y="5013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atoglo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и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07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ма величини се деле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е до  6D, средње до 12D и малигне преко 12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04fc"/>
                </a:solidFill>
                <a:latin typeface="Arial"/>
              </a:rPr>
              <a:t>Малигна миоп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аје у раном детињству, често је наслед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генеративне промене на очном дну (conus myopicus, staphiloma posticum verum scarpe, миопна хороидоза, опацитати у стакластом телу, Fuchsova мрља, аблација рети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егенеративна миоп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Detail"/>
          <p:cNvPicPr/>
          <p:nvPr/>
        </p:nvPicPr>
        <p:blipFill>
          <a:blip r:embed="rId1"/>
          <a:stretch/>
        </p:blipFill>
        <p:spPr>
          <a:xfrm>
            <a:off x="900000" y="1268280"/>
            <a:ext cx="3745080" cy="3206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thumbnail"/>
          <p:cNvPicPr/>
          <p:nvPr/>
        </p:nvPicPr>
        <p:blipFill>
          <a:blip r:embed="rId2"/>
          <a:stretch/>
        </p:blipFill>
        <p:spPr>
          <a:xfrm>
            <a:off x="5651640" y="4076640"/>
            <a:ext cx="2735280" cy="254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thumbnail"/>
          <p:cNvPicPr/>
          <p:nvPr/>
        </p:nvPicPr>
        <p:blipFill>
          <a:blip r:embed="rId3"/>
          <a:stretch/>
        </p:blipFill>
        <p:spPr>
          <a:xfrm>
            <a:off x="5651640" y="1268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thumbnail"/>
          <p:cNvPicPr/>
          <p:nvPr/>
        </p:nvPicPr>
        <p:blipFill>
          <a:blip r:embed="rId4"/>
          <a:stretch/>
        </p:blipFill>
        <p:spPr>
          <a:xfrm>
            <a:off x="971640" y="465300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стигматизам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5472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астигматизма постоје сложени оптички одно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ма једне жиже већ две жижне линије које одговарају главним преломним меридијанима (Šturmov конои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кључиво је везан за промену односа закривљености рожњ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дан меридијан прелама најјаче, док меридијан под углом од 90º најслаб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thumbnail"/>
          <p:cNvPicPr/>
          <p:nvPr/>
        </p:nvPicPr>
        <p:blipFill>
          <a:blip r:embed="rId1"/>
          <a:stretch/>
        </p:blipFill>
        <p:spPr>
          <a:xfrm>
            <a:off x="5940360" y="2421000"/>
            <a:ext cx="281952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ОШТРИНА ВИДА-ВИЗУ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704fc"/>
                </a:solidFill>
                <a:latin typeface="Arial"/>
              </a:rPr>
              <a:t>Оштрина вида је основна функција ока и зависи од два фактор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идности оптичких медија, анатомске грађе сензорне ретине и виших видних пут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клађености јачине преломног апарата ока и предње задње осовине 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ОШТРИНА ВИДА-ВИЗУ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02152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ФИНИЦИЈ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штрина вида је способност ока да види одвојено две суседне тачке под одређеним минималним уг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separab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дв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 не могу видети одвојено ако је угао између њих мањи од  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visibe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минимална величина да би предмет уопште био опажен и износи  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cognoscib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угао под који се распознаје облик и износи 5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снови рефракциј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фракција је део оптике која проучава преламање светл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фракциј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о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ставља однос између дужине предње задње осовине ока и јачине  преломног апарата ока (рожњаче и сочи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ачка најјаснијег ви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518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и предуслов да се две тачке перципирају као одвојене ја да  њихови оштро оцртани ликови падну на два чепића fovee тако да између њих остане један ненадражен чеп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ђа foveole: само чепићи, биполарне и ганглијске ћелије су померене латерално, аваскуларна је, једном чепићу одговара једна биполарна ћелија, једна ганглијска, једно влакно у видном пу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thumbnail"/>
          <p:cNvPicPr/>
          <p:nvPr/>
        </p:nvPicPr>
        <p:blipFill>
          <a:blip r:embed="rId1"/>
          <a:srcRect l="0" t="0" r="6727" b="0"/>
          <a:stretch/>
        </p:blipFill>
        <p:spPr>
          <a:xfrm>
            <a:off x="5580000" y="4508640"/>
            <a:ext cx="3168720" cy="2082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degeneracija_makula_lutee"/>
          <p:cNvPicPr/>
          <p:nvPr/>
        </p:nvPicPr>
        <p:blipFill>
          <a:blip r:embed="rId2"/>
          <a:stretch/>
        </p:blipFill>
        <p:spPr>
          <a:xfrm>
            <a:off x="5580000" y="1413000"/>
            <a:ext cx="3132360" cy="2876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thumbnail"/>
          <p:cNvPicPr/>
          <p:nvPr/>
        </p:nvPicPr>
        <p:blipFill>
          <a:blip r:embed="rId1"/>
          <a:stretch/>
        </p:blipFill>
        <p:spPr>
          <a:xfrm>
            <a:off x="6286680" y="1916280"/>
            <a:ext cx="2857320" cy="21999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ОШТРИНА ВИДА-ВИЗУ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641988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штрина вида опада са удаљавањем од фове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ивици жуте мрље је ½ нормалних 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ипапиларно је 0,1 и м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штрина вида се развија до 6-7 год жи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месечна беба има видну оштрину око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кид развоја видног акта (конгенитална и секундарна катаракта) доводи до депривационе амблиоп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дређивање оштрине ви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бјективна мет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јективна мет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thumbnail"/>
          <p:cNvPicPr/>
          <p:nvPr/>
        </p:nvPicPr>
        <p:blipFill>
          <a:blip r:embed="rId1"/>
          <a:stretch/>
        </p:blipFill>
        <p:spPr>
          <a:xfrm>
            <a:off x="1187280" y="378936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thumbnail"/>
          <p:cNvPicPr/>
          <p:nvPr/>
        </p:nvPicPr>
        <p:blipFill>
          <a:blip r:embed="rId2"/>
          <a:srcRect l="0" t="7287" r="28949" b="0"/>
          <a:stretch/>
        </p:blipFill>
        <p:spPr>
          <a:xfrm>
            <a:off x="4859280" y="3716280"/>
            <a:ext cx="2266920" cy="2051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9"/>
          <p:cNvSpPr/>
          <p:nvPr/>
        </p:nvSpPr>
        <p:spPr>
          <a:xfrm>
            <a:off x="1116000" y="595008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oltov прс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5364000" y="602136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ügerove к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Видна оштрина-Визу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solidFill>
            <a:srgbClr val="c704f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ffffff"/>
                </a:solidFill>
                <a:latin typeface="Arial"/>
              </a:rPr>
              <a:t>V = d /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– растојање са кога се врши испитивање (6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– растојање са кога особа са нормалним видом треба да препозна понуђени сим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5940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СУБЈЕКТИВНА МЕТ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Оптотип, сет пробних стакала, пробни рам, астигматска леп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exam-retinoscopy-175x260"/>
          <p:cNvPicPr/>
          <p:nvPr/>
        </p:nvPicPr>
        <p:blipFill>
          <a:blip r:embed="rId1"/>
          <a:stretch/>
        </p:blipFill>
        <p:spPr>
          <a:xfrm>
            <a:off x="5796000" y="2320920"/>
            <a:ext cx="3024000" cy="453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2972a3df508e4bf3e22a2dac7935ffc_lead_image"/>
          <p:cNvPicPr/>
          <p:nvPr/>
        </p:nvPicPr>
        <p:blipFill>
          <a:blip r:embed="rId2"/>
          <a:stretch/>
        </p:blipFill>
        <p:spPr>
          <a:xfrm>
            <a:off x="900000" y="1268280"/>
            <a:ext cx="3959280" cy="1776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thumbnail"/>
          <p:cNvPicPr/>
          <p:nvPr/>
        </p:nvPicPr>
        <p:blipFill>
          <a:blip r:embed="rId3"/>
          <a:stretch/>
        </p:blipFill>
        <p:spPr>
          <a:xfrm>
            <a:off x="1258920" y="5013360"/>
            <a:ext cx="3600360" cy="1844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thumbnail"/>
          <p:cNvPicPr/>
          <p:nvPr/>
        </p:nvPicPr>
        <p:blipFill>
          <a:blip r:embed="rId4"/>
          <a:stretch/>
        </p:blipFill>
        <p:spPr>
          <a:xfrm>
            <a:off x="5580000" y="189000"/>
            <a:ext cx="2857680" cy="15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убјективна метод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ацијент седи на 6 m од оптотипа, испитује се свако око поједина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mage Detail"/>
          <p:cNvPicPr/>
          <p:nvPr/>
        </p:nvPicPr>
        <p:blipFill>
          <a:blip r:embed="rId1"/>
          <a:stretch/>
        </p:blipFill>
        <p:spPr>
          <a:xfrm>
            <a:off x="324000" y="3213000"/>
            <a:ext cx="3801960" cy="2801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age Detail"/>
          <p:cNvPicPr/>
          <p:nvPr/>
        </p:nvPicPr>
        <p:blipFill>
          <a:blip r:embed="rId2"/>
          <a:stretch/>
        </p:blipFill>
        <p:spPr>
          <a:xfrm>
            <a:off x="4140360" y="3357720"/>
            <a:ext cx="500364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ОБЈЕКТИВНА МЕТО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Офталмоско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Рефрактометр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кијаско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Оптокинетски нистагм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8" descr="p_2467621.jpg"/>
          <p:cNvPicPr/>
          <p:nvPr/>
        </p:nvPicPr>
        <p:blipFill>
          <a:blip r:embed="rId1"/>
          <a:stretch/>
        </p:blipFill>
        <p:spPr>
          <a:xfrm>
            <a:off x="5580000" y="2060640"/>
            <a:ext cx="3402000" cy="43196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АКОМОДАЦ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пособност ока да на различитим растојањима посматраног предмета, а у границама између најближе и најдаље тачке јасног вида може да вид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матране предмет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зива се  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АКОМОД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комодација има активну компоненту – цилијарни мишић и пасивну компоненту-сочи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ОБИМ И ШИРИНА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комод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ОБИМ АКОМОДАЦИЈ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жава с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у диоптријама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зависис од рефракције већ од узраста и склерозе соч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ШИРИНА АКОМОДАЦИЈЕ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зражава с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у метрима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едставља растојање од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тачке најдаљег вида (PR) до тачке најближег вида (PP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зависи од рефрак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ПОРЕМЕЋАЈИ АКОМОДАЦИЈ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ПРЕЗБИОП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старачка далековидост</a:t>
            </a:r>
            <a:r>
              <a:rPr b="0" lang="sr-CS" sz="2400" spc="-1" strike="noStrike">
                <a:solidFill>
                  <a:srgbClr val="c704fc"/>
                </a:solidFill>
                <a:latin typeface="Arial"/>
              </a:rPr>
              <a:t>)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са 45 година обим комодације опада испод  4D. Коригује се према таблицама тако да се на преостали обим акомодације дода корекција која омогућава нормалан рад на  25 cm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ПАРАЛИЗА АКОМОДАЦИЈ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– централног и периферног порекла (lues cerebri, дифтерија, encephalitis letargica, ботулизам, тровање гљива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имена атро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СПАЗАМ АКОМОДАЦИЈ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– хиперметропи после дужег рада на близину, после примене миотика. Манифестује се боловима у очима, глави, узаном зеницом, акомодативном миопиј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Лечење –атропинска циклоплег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137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РИГОВАЊЕ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ПРЕЗБИОПИЈ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000"/>
            </a:br>
            <a:r>
              <a:rPr b="0" lang="sr-Latn-CS" sz="3000" spc="-1" strike="noStrike">
                <a:solidFill>
                  <a:srgbClr val="9933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Год .      Обим акомодације       Дефицит акомод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45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3,5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0,5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50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2,5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1,5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55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1,5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2,5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60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1,0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3,0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&gt;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60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      0,0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       3,5 - 4,0 dptr Корекција зависи од заним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снови рефракциј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56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етлост се простире праволинијски кроз хомогену средину, али при преласку из једне у другу средину мења права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реласку из оптички ређе (ваздух) у оптички гушћу (стакло) зраци се ломе ка норм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адни угао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еломног угла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04fc"/>
                </a:solidFill>
                <a:latin typeface="Arial"/>
              </a:rPr>
              <a:t>Индекс преламања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I ) =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зду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вода  = 1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зду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кло = 1,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humbnail"/>
          <p:cNvPicPr/>
          <p:nvPr/>
        </p:nvPicPr>
        <p:blipFill>
          <a:blip r:embed="rId1"/>
          <a:stretch/>
        </p:blipFill>
        <p:spPr>
          <a:xfrm>
            <a:off x="6300720" y="2205000"/>
            <a:ext cx="284328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Контактна соч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нвексноконкавног облика при чему јачина закривљености преломне површине одређује моћ прелам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Између задње стране сочива и епитела рожњаче постоји равномерни слој суза </a:t>
            </a:r>
            <a:r>
              <a:rPr b="0" lang="sl-SI" sz="2800" spc="-1" strike="noStrike">
                <a:solidFill>
                  <a:srgbClr val="c704fc"/>
                </a:solidFill>
                <a:latin typeface="Arial"/>
              </a:rPr>
              <a:t>»пливајуће сочиво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No Patient (0), 21_10_03 16_07_53, Not-Assigned"/>
          <p:cNvPicPr/>
          <p:nvPr/>
        </p:nvPicPr>
        <p:blipFill>
          <a:blip r:embed="rId1"/>
          <a:stretch/>
        </p:blipFill>
        <p:spPr>
          <a:xfrm>
            <a:off x="5219640" y="1773360"/>
            <a:ext cx="3203640" cy="26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6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Предности контактних сочив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532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мењају величину посматраних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ља корекција анизометро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екција ирегуларног астигматиз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минишу недостатак сочива у наочарима: сферну, хроматску аберацију, призматски ефекат,нема сужења видног поља, замагљења наоч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гу да маскирају деформације дужице и пупи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рапијски код неких обољења рожњ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Oftalmologija1"/>
          <p:cNvPicPr/>
          <p:nvPr/>
        </p:nvPicPr>
        <p:blipFill>
          <a:blip r:embed="rId1"/>
          <a:stretch/>
        </p:blipFill>
        <p:spPr>
          <a:xfrm>
            <a:off x="5796000" y="1484280"/>
            <a:ext cx="3073320" cy="2133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scleral%20lens%20on%20post-lasik%20cornea"/>
          <p:cNvPicPr/>
          <p:nvPr/>
        </p:nvPicPr>
        <p:blipFill>
          <a:blip r:embed="rId2"/>
          <a:stretch/>
        </p:blipFill>
        <p:spPr>
          <a:xfrm>
            <a:off x="6012000" y="3933720"/>
            <a:ext cx="2469960" cy="21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Недостаци контактних сочив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оксија рожњаче ( решава се формом сочива и избором сочива која имају већу пропустљивост за  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ћност развоја 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ложења на сочиву протеинских депозита из с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кција вежњаче гигантопапиларни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нктивити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шкоће у постављању и одржавањ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сока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код радника у задимљеним просторијама и код испаравања у вазду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c704fc"/>
                </a:solidFill>
                <a:latin typeface="Arial"/>
              </a:rPr>
              <a:t>Рефрактивна хирург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Lasik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Laser In Situ Keratomileusi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кон у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ања епителног флапа третира се средњи део стро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PRK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фоторефрактивна кератотомиј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EXIMER ласер</a:t>
            </a:r>
            <a:r>
              <a:rPr b="0" lang="sr-CS" sz="2000" spc="-1" strike="noStrike">
                <a:solidFill>
                  <a:srgbClr val="c704fc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тира се предњи део стро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Femtosecond-laseri:small-incision lenticular extraction (SmILE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Најчешће индик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опија  (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 –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иперметропија  (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Регуларни астигматизам ( do 3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А</a:t>
            </a:r>
            <a:r>
              <a:rPr b="0" lang="sr-CS" sz="2000" spc="-1" strike="noStrike">
                <a:solidFill>
                  <a:srgbClr val="c704fc"/>
                </a:solidFill>
                <a:latin typeface="Arial"/>
              </a:rPr>
              <a:t>п</a:t>
            </a: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солутне</a:t>
            </a:r>
            <a:r>
              <a:rPr b="0" lang="sr-CS" sz="2000" spc="-1" strike="noStrike">
                <a:solidFill>
                  <a:srgbClr val="c704fc"/>
                </a:solidFill>
                <a:latin typeface="Arial"/>
              </a:rPr>
              <a:t> и</a:t>
            </a:r>
            <a:r>
              <a:rPr b="0" lang="en-US" sz="2000" spc="-1" strike="noStrike">
                <a:solidFill>
                  <a:srgbClr val="c704fc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релативне контраиндик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слови : &gt;18 г, стабилна рефракција  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есе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starovidnost1"/>
          <p:cNvPicPr/>
          <p:nvPr/>
        </p:nvPicPr>
        <p:blipFill>
          <a:blip r:embed="rId1"/>
          <a:stretch/>
        </p:blipFill>
        <p:spPr>
          <a:xfrm>
            <a:off x="6227640" y="476280"/>
            <a:ext cx="259236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чив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58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чива су оптички активна тела ограничена сферним, односно сферним и равним површи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но од тога да ли светлост након проласка кроз сочиво доспева у стање конвергенц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дивергенц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еле се на конвексна ( сабирна) и конкавна (расипна) соч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thumbnail"/>
          <p:cNvPicPr/>
          <p:nvPr/>
        </p:nvPicPr>
        <p:blipFill>
          <a:blip r:embed="rId1"/>
          <a:stretch/>
        </p:blipFill>
        <p:spPr>
          <a:xfrm>
            <a:off x="6084720" y="4365720"/>
            <a:ext cx="2857680" cy="2171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thumbnail"/>
          <p:cNvPicPr/>
          <p:nvPr/>
        </p:nvPicPr>
        <p:blipFill>
          <a:blip r:embed="rId2"/>
          <a:stretch/>
        </p:blipFill>
        <p:spPr>
          <a:xfrm>
            <a:off x="5796000" y="333360"/>
            <a:ext cx="285732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thumbnail"/>
          <p:cNvPicPr/>
          <p:nvPr/>
        </p:nvPicPr>
        <p:blipFill>
          <a:blip r:embed="rId3"/>
          <a:stretch/>
        </p:blipFill>
        <p:spPr>
          <a:xfrm>
            <a:off x="6012000" y="2492280"/>
            <a:ext cx="285732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абирна соч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605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редишњем делу су деб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к посматраног предмета изгледа већи и ближ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ематски као две призме спојене баз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лелни светлосни зрак при проласку кроз сочиво ломи се ка базама приз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thumbnail"/>
          <p:cNvPicPr/>
          <p:nvPr/>
        </p:nvPicPr>
        <p:blipFill>
          <a:blip r:embed="rId1"/>
          <a:stretch/>
        </p:blipFill>
        <p:spPr>
          <a:xfrm>
            <a:off x="6286680" y="1916280"/>
            <a:ext cx="2857320" cy="184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асипна соч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703260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ња су у средњем д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к посматраног предмета изгледа мањи и даљ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лелни светлосни сноп при проласку кроз њих доспева у стање диверген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а је жижа виртуе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 се замислити као да је састављено од две призме спојене врховима ка цен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thumbn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676440"/>
            <a:ext cx="27716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илиндрична соч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 одсечак (сабирна) или отисак (расипна) 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а преламају светлост само у једном активном меридијану, док кроз неактивни меридијан пролазе без прелам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Недостаци сочива су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04fc"/>
                </a:solidFill>
                <a:latin typeface="Arial"/>
              </a:rPr>
              <a:t>Сферна аберациј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највише преламају зраци који падају на периферију сочи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04fc"/>
                </a:solidFill>
                <a:latin typeface="Arial"/>
              </a:rPr>
              <a:t>Хроматска аберациј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најаче преламају светлосни зрац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лавог дела спект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04fc"/>
                </a:solidFill>
                <a:latin typeface="Arial"/>
              </a:rPr>
              <a:t>Астигматизам косих зраков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настаје због неправилног преламања зракова који падају косо на сочиво ван оптичког центр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времена сочива имају знaчајно смањење ових абер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ИОПТРИКА О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704fc"/>
                </a:solidFill>
                <a:latin typeface="Arial"/>
              </a:rPr>
              <a:t>Camera obscura</a:t>
            </a:r>
            <a:r>
              <a:rPr b="0" lang="en-US" sz="2800" spc="-1" strike="noStrike">
                <a:solidFill>
                  <a:srgbClr val="c704fc"/>
                </a:solidFill>
                <a:latin typeface="Arial"/>
              </a:rPr>
              <a:t> –</a:t>
            </a:r>
            <a:r>
              <a:rPr b="0" lang="sr-Latn-CS" sz="2800" spc="-1" strike="noStrike">
                <a:solidFill>
                  <a:srgbClr val="c704fc"/>
                </a:solidFill>
                <a:latin typeface="Arial"/>
              </a:rPr>
              <a:t> мрачн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704fc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c704fc"/>
                </a:solidFill>
                <a:latin typeface="Arial"/>
              </a:rPr>
              <a:t>Дефиниција рефракције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днос дужине ока мора бити такав да паралелни светлосни зраци који долазе из даљине после преламања кроз рожњачу и сочиво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варају фокус, оштар лик у пределу макуле без учешћа акомод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ужина ока (24 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оћ преламања оптичког систем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 4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 17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упно=60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svetloba-oko-anatomija"/>
          <p:cNvPicPr/>
          <p:nvPr/>
        </p:nvPicPr>
        <p:blipFill>
          <a:blip r:embed="rId1"/>
          <a:stretch/>
        </p:blipFill>
        <p:spPr>
          <a:xfrm>
            <a:off x="5940360" y="475308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6:01:24Z</dcterms:created>
  <dc:creator>Bife</dc:creator>
  <dc:description/>
  <dc:language>en-US</dc:language>
  <cp:lastModifiedBy>Windows User</cp:lastModifiedBy>
  <dcterms:modified xsi:type="dcterms:W3CDTF">2020-09-26T16:03:02Z</dcterms:modified>
  <cp:revision>280</cp:revision>
  <dc:subject/>
  <dc:title>Slide 1</dc:title>
</cp:coreProperties>
</file>