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0EF4-7903-4E23-8452-EE5CE39F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8885-51D1-4DCE-A85A-993CC8BE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5E49-9E18-4E8E-A9D0-59A7339A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F66F-B114-4F72-96B0-26A15F0D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BC17-2E53-485A-A2FC-0C88B82CF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6AF5-4929-4D63-9D6A-6E3C499D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4DF6-262C-4BF6-A2C8-CD3F84C2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681C-0928-4500-BBAF-430FF4FD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A38D-2AD4-438C-A80E-9D2F0C66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6918-83F1-49B6-A14B-B3918009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21D8-A35B-4238-89F3-2092BF21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5D6D-6151-41A3-83BA-13AAFF82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73E9-8BFB-43AE-93F7-5EBF1306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D2A4-C9F1-4EA5-BEB8-28772984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8C72-78DD-4505-8440-965A7A1A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6F4E-B65F-4A66-97BE-4BDF61144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9936-E94C-4517-AA96-F8B6DE05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A18C-874F-473C-9B77-ADDFF59A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34C3-2CC9-4F3C-998C-FC443FF6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7431-C74B-49FA-A2D3-518377D9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FB23-BD34-4CF1-B05A-E94417CE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96FD-80E6-413A-A76E-91120F67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3FC4-9D55-4640-B015-FDB1F170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20B5-7B27-4707-9348-D0EEB6D9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B0E8-EE21-45EA-99C4-566276CD08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E4C9-EECF-4DDE-98F3-2FCB473686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ФРАКЦИЈА И АКОМОДАЦИЈА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-вежб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7636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оф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др Сунчица Срећковић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Дегенеративна миопиј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Image Detail"/>
          <p:cNvPicPr/>
          <p:nvPr/>
        </p:nvPicPr>
        <p:blipFill>
          <a:blip r:embed="rId1"/>
          <a:stretch/>
        </p:blipFill>
        <p:spPr>
          <a:xfrm>
            <a:off x="900000" y="1268280"/>
            <a:ext cx="3745080" cy="3206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thumbnail"/>
          <p:cNvPicPr/>
          <p:nvPr/>
        </p:nvPicPr>
        <p:blipFill>
          <a:blip r:embed="rId2"/>
          <a:stretch/>
        </p:blipFill>
        <p:spPr>
          <a:xfrm>
            <a:off x="5651640" y="4076640"/>
            <a:ext cx="2735280" cy="2548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thumbnail"/>
          <p:cNvPicPr/>
          <p:nvPr/>
        </p:nvPicPr>
        <p:blipFill>
          <a:blip r:embed="rId3"/>
          <a:stretch/>
        </p:blipFill>
        <p:spPr>
          <a:xfrm>
            <a:off x="5651640" y="126828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thumbnail"/>
          <p:cNvPicPr/>
          <p:nvPr/>
        </p:nvPicPr>
        <p:blipFill>
          <a:blip r:embed="rId4"/>
          <a:stretch/>
        </p:blipFill>
        <p:spPr>
          <a:xfrm>
            <a:off x="971640" y="4653000"/>
            <a:ext cx="3168720" cy="210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алигна миопија на десном 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иопна дегенерација жуте мрљ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аве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-VEG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вентивна ЛФЦ баража палисадне дегенер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Arial"/>
              </a:rPr>
              <a:t>Наш пациј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ушкарац стар 52 год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амнеза: носи наочаре за даљину, има проблем са читањ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фталмолошка лична и породична анамнеза без знача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чна анамнеза: ДМ тип 2, хипертен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D: 1.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VOS: 0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c+1.0Dsph=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: 12 mmH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S:14 mm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изометропиј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: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метропиј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OS: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метроп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лаз на предњем сегмент уре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глед очног дна: налаз уредан, без промена за Д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Еметропиј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27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ос моћи преламања и величине предње задњег дијаметра је  такав да се светлосни зраци који долазе из даљине преламају и секу у самој макули без учешћа акомод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јдаља тачка јасног вида је у бескона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јближа тачка punctum proksimum PP зависи од старости односно акомодационих способности пациј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Хиперметропиј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61214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иперметропија је рефракциона аномалија код које се паралелни светлосни зраци који долазе из даљине фокусирају иза мрежњаче без учешћа акомод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лог: осовинска (око мање од 24 mm), ређе cornea plana и афак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инички три облика хиперметропије: тотална, латентна и манифест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екција сабирним конвексним сочив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ундус : pseudoneuritis hypermetrop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thumbnail"/>
          <p:cNvPicPr/>
          <p:nvPr/>
        </p:nvPicPr>
        <p:blipFill>
          <a:blip r:embed="rId1"/>
          <a:stretch/>
        </p:blipFill>
        <p:spPr>
          <a:xfrm>
            <a:off x="6451560" y="2428920"/>
            <a:ext cx="2692440" cy="30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6202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 аметропијом подразумевамо рефракционе аномалије: хиперметропију, миопију и астигматиз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изометропија је неједнака рефракција на два ока исте осо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Сабирна сочив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6059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средишњем делу су дебљ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к посматраног предмета изгледа већи и ближ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ематски као две призме спојене баз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алелни светлосни зр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ц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и проласку кроз сочиво лом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е ка базама приз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thumbnail"/>
          <p:cNvPicPr/>
          <p:nvPr/>
        </p:nvPicPr>
        <p:blipFill>
          <a:blip r:embed="rId1"/>
          <a:stretch/>
        </p:blipFill>
        <p:spPr>
          <a:xfrm>
            <a:off x="6286680" y="1916280"/>
            <a:ext cx="2857320" cy="184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0000"/>
                </a:solidFill>
                <a:latin typeface="Arial"/>
              </a:rPr>
              <a:t>АКОМОДАЦИЈ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Способност ока да на различитим растојањима посматраног предмета, а у границама између најближе и најдаље тачке јасног вида може да вид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матране предмете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азива се  </a:t>
            </a:r>
            <a:r>
              <a:rPr b="0" lang="sl-SI" sz="2400" spc="-1" strike="noStrike">
                <a:solidFill>
                  <a:srgbClr val="c704fc"/>
                </a:solidFill>
                <a:latin typeface="Arial"/>
              </a:rPr>
              <a:t>АКОМОД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Акомодација има активну компонент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цилијарни мишић и пасивну компоненту-сочи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c704fc"/>
                </a:solidFill>
                <a:latin typeface="Arial"/>
              </a:rPr>
              <a:t>ОБИМ АКОМОДАЦИЈЕ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ражава с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диоптријам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не зависис од рефракције већ од узраста и склерозе соч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1374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езбиопија</a:t>
            </a:r>
            <a:br>
              <a:rPr sz="3000"/>
            </a:b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Физиолошко опадање акомодације условљено старењем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2060"/>
                </a:solidFill>
                <a:latin typeface="Arial"/>
              </a:rPr>
              <a:t>Год .      Обим акомодације       Дефицит акомод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45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  3,5 dptr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0,5 dp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50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  2,5 dptr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1,5 dp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55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  1,5 dptr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2,5 dp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60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  1,0 dptr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3,0 dp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&gt;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 60  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        0,0 dptr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         3,5 - 4,0 dptr Корекција зависи од заним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збипија-корекција за близ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+2.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sph   OS:+3.00Ds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авет: контрол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, HbA1c, TA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терниста и ендокрино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нтрола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годиш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Arial"/>
              </a:rPr>
              <a:t>Наш пациј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528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ушкарац стар 39 го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оси наочаре од детињства, повремено носи и контактна соч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ична и породична офталмолошка анамнеза без знач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није добро виде са корекциј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метио је пад вида на десном ок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 метаморфопс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Arial"/>
              </a:rPr>
              <a:t>Наш пациј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D: cc-13.0=0.1            VOS:cc-7.0Dsph=1.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:12 mmH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TOS:13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лаз на предњем сегменту ока уре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ониоскопија: коморни угао отворен широк, нормалне пигмент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рађен преглед у  максималној мидрија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Myopic Macular Degeneration | Myopic Degeneration | pathological ..."/>
          <p:cNvPicPr/>
          <p:nvPr/>
        </p:nvPicPr>
        <p:blipFill>
          <a:blip r:embed="rId1"/>
          <a:srcRect l="20901" t="9299" r="15619" b="0"/>
          <a:stretch/>
        </p:blipFill>
        <p:spPr>
          <a:xfrm>
            <a:off x="755640" y="2349360"/>
            <a:ext cx="3745080" cy="280836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2" descr="Lattice Degeneration - The American Society of Retina Specialists"/>
          <p:cNvPicPr/>
          <p:nvPr/>
        </p:nvPicPr>
        <p:blipFill>
          <a:blip r:embed="rId2"/>
          <a:srcRect l="0" t="0" r="23737" b="20363"/>
          <a:stretch/>
        </p:blipFill>
        <p:spPr>
          <a:xfrm>
            <a:off x="4859280" y="1989000"/>
            <a:ext cx="3457800" cy="3456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1"/>
          <p:cNvSpPr/>
          <p:nvPr/>
        </p:nvSpPr>
        <p:spPr>
          <a:xfrm>
            <a:off x="826920" y="551664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сно о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5219640" y="6237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лисадна дегенерациј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Arial"/>
              </a:rPr>
              <a:t>Амслерова мрежа и ОЦТ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Amsler Grid | metamorphopsia | age related macular degeneration ..."/>
          <p:cNvPicPr/>
          <p:nvPr/>
        </p:nvPicPr>
        <p:blipFill>
          <a:blip r:embed="rId1"/>
          <a:stretch/>
        </p:blipFill>
        <p:spPr>
          <a:xfrm>
            <a:off x="1258920" y="2205000"/>
            <a:ext cx="2705040" cy="2666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Clinical Management of Myopia in Adults: Treatment of Myopic CNV ..."/>
          <p:cNvPicPr/>
          <p:nvPr/>
        </p:nvPicPr>
        <p:blipFill>
          <a:blip r:embed="rId2"/>
          <a:srcRect l="39669" t="0" r="0" b="51484"/>
          <a:stretch/>
        </p:blipFill>
        <p:spPr>
          <a:xfrm>
            <a:off x="4427640" y="2289240"/>
            <a:ext cx="4510080" cy="20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Миопиј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5688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фракциона аномалија код које паралелни светлосни снопови који долазе из даљине после преламања кроз рожњачу и сочиво стварају фокус пре мрежњаче у стакластом телу и доспевши иза фокуса у стање дивергенције, стварају на ретини расипне круго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лог: аксијални (око веће од 24 mm или прејака преломна моћ ока (keratokonus, spherophakia, lenticon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игује се конкавним расипним сочивима, контактним сочивима, рефрактивном хирургијом,  уградњом  “faknih “ соч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thumbnail"/>
          <p:cNvPicPr/>
          <p:nvPr/>
        </p:nvPicPr>
        <p:blipFill>
          <a:blip r:embed="rId1"/>
          <a:stretch/>
        </p:blipFill>
        <p:spPr>
          <a:xfrm>
            <a:off x="6019920" y="1484280"/>
            <a:ext cx="3124080" cy="35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Расипна сочив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68882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ња су у средњем де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к посматраног предмета изгледа мањи и даљ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алелни светлосни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рац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и проласку кроз њих доспев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у стање дивергенц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па је жижа виртуел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же се замислити као да је састављено од две призме спојене врховима ка цент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thumbnail"/>
          <p:cNvPicPr/>
          <p:nvPr/>
        </p:nvPicPr>
        <p:blipFill>
          <a:blip r:embed="rId1"/>
          <a:stretch/>
        </p:blipFill>
        <p:spPr>
          <a:xfrm>
            <a:off x="6227640" y="5041800"/>
            <a:ext cx="2540160" cy="18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Миопиј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507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ма величини се деле 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ле до  6D, средње до 12D и малигне преко 12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04fc"/>
                </a:solidFill>
                <a:latin typeface="Arial"/>
              </a:rPr>
              <a:t>Малигна миопиј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стаје у раном детињству, често је наслед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генеративне промене на очном дну (conus myopicus, staphiloma posticum verum scarpe, миопна хороидоза, опацитати у стакластом телу, Fuchsova мрља, аблација ретин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Тачка најјаснијег ви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518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и предуслов да се две тачке перципирају као одвојене ја да  њихови оштро оцртани ликови падну на два чепића fovee тако да између њих остане један ненадражен чепи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ађа foveole: само чепићи, биполарне и ганглијске ћелије су померене латерално, аваскуларна је, једном чепићу одговара једна биполарна ћелија, једна ганглијска, једно влакно у видном пу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thumbnail"/>
          <p:cNvPicPr/>
          <p:nvPr/>
        </p:nvPicPr>
        <p:blipFill>
          <a:blip r:embed="rId1"/>
          <a:srcRect l="0" t="0" r="6727" b="0"/>
          <a:stretch/>
        </p:blipFill>
        <p:spPr>
          <a:xfrm>
            <a:off x="5580000" y="4508640"/>
            <a:ext cx="3168720" cy="2082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degeneracija_makula_lutee"/>
          <p:cNvPicPr/>
          <p:nvPr/>
        </p:nvPicPr>
        <p:blipFill>
          <a:blip r:embed="rId2"/>
          <a:stretch/>
        </p:blipFill>
        <p:spPr>
          <a:xfrm>
            <a:off x="5580000" y="1413000"/>
            <a:ext cx="3132360" cy="2876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06:01:24Z</dcterms:created>
  <dc:creator>Bife</dc:creator>
  <dc:description/>
  <dc:language>en-US</dc:language>
  <cp:lastModifiedBy>Windows User</cp:lastModifiedBy>
  <dcterms:modified xsi:type="dcterms:W3CDTF">2020-09-26T16:54:46Z</dcterms:modified>
  <cp:revision>283</cp:revision>
  <dc:subject/>
  <dc:title>Slide 1</dc:title>
</cp:coreProperties>
</file>